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0C5-D045-490C-9B1A-02750FD8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8F4-FA4D-4EF5-8BFD-35D5FB6D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73A-2859-409E-BE88-8FF2C133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7B4-EE35-4F31-9DFE-6E287937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F181-185C-4D08-83D9-41265C7B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B822-C8F2-491B-B7C0-98FD3B5C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A244-2A4E-4EF5-8C66-E9E6D73E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97CE-DB64-436C-A0E8-743C7280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2123-BDE7-486D-A375-8BB8C857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2407-9523-4AE0-974B-32907DA4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B66E-AF55-4A29-8764-40C7FB1B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62B-6510-487D-8793-F51E8A15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CA50-D766-40A9-90F2-55E0A96E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E5DC-F2AD-4AF4-A815-F3926E84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5E3C-101D-4F0E-B098-3743DD4F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43F0-C5AC-439B-99DD-46BB353B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60DE-D5C9-40B9-AFD3-50C284EA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A9B49-7EBA-4199-8B6F-3ED0548B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5DCA-D611-4A9F-883F-0E4A3AF0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B8E33-285C-4056-A55D-5B497045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88C68-1FBE-4223-AE60-6DB04A91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85B7F-37A2-41FE-9FE2-2BAEC83E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2B7-2C7E-4E45-9BD5-D8B9432B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FC146-A3B0-4B10-9C96-A5D8BC9E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D1CAD-D722-417E-ADA0-CB5238E1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C4C84-BFBA-443E-BF65-69DCCEC0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E0D77-E82B-4D2B-BF3D-AD31713B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68FC0-8176-4CFD-9FF7-63C9DA7D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BE62F-72B9-4A81-8C19-20A0D69B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780E9-A9D0-4D37-8CA4-831BAD9D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24FA9-B6C8-4D15-A286-A68D902F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F684F-4199-40BF-85A3-6BE76548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2AF95-BD03-4109-8004-A602DB54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A42-0326-4D34-9083-F5620A98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14594-487B-46EE-A2F5-57C1892A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A4EB9-2959-4DAF-8E7E-4DE14A2E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84E83-A555-4EF2-8F1D-A85B8706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EDCD9-3C3F-4D6A-9802-948F1451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80761-BDA1-4634-A2DC-963E082D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E9200-D194-42AE-9330-3C7F2B8C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54288-6E93-4708-B149-885D6441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375B-56AD-4E42-94CB-641BB54C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6FE55-5038-4B71-8838-0DBAAA21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9F6-A3D6-4F0A-8FA7-FDFCD2E4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E5C-1402-4F46-8ECD-B045EEC3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1CD-9473-4004-9E22-C7CB9AC6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36E-42D4-4EE3-9890-B716FAFA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83F-A564-4078-BE79-DF1F91FB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91D6-E6AC-4420-9CA2-17CD3F60A707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04A0-CD70-4AFC-99A0-41CD79FBE657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EAC5-C84F-41F2-945E-BA58E9E29D11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4579-2F7F-4889-8809-AFB176AD7B19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150480"/>
            <a:ext cx="9718560" cy="4157640"/>
          </a:xfrm>
          <a:prstGeom prst="rect">
            <a:avLst/>
          </a:prstGeom>
          <a:noFill/>
          <a:ln w="9360">
            <a:solidFill>
              <a:srgbClr val="90c226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       </a:t>
            </a: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Окружающий мир</a:t>
            </a:r>
            <a:br>
              <a:rPr sz="6000"/>
            </a:b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     «Кто нас лечит»?</a:t>
            </a:r>
            <a:br>
              <a:rPr sz="6000"/>
            </a:b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Тема недели: 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«Мир профессий»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(с 13.04 по 17.0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Цель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92040" y="1890360"/>
            <a:ext cx="79390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знать больше о профессий врач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45960" y="-360"/>
            <a:ext cx="9429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>
                <a:solidFill>
                  <a:srgbClr val="90c226"/>
                </a:solidFill>
                <a:latin typeface="Trebuchet MS"/>
              </a:rPr>
              <a:t>«Доктор Айболит»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0760" y="1770120"/>
            <a:ext cx="52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годня вам предлагаем прочитать  сказку: Корнея Чуковского «Доктор Айболит». Так же вы можете просмотреть видео сказ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5" descr="1017815927.jpg"/>
          <p:cNvPicPr/>
          <p:nvPr/>
        </p:nvPicPr>
        <p:blipFill>
          <a:blip r:embed="rId1"/>
          <a:stretch/>
        </p:blipFill>
        <p:spPr>
          <a:xfrm>
            <a:off x="7515360" y="1246320"/>
            <a:ext cx="374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02920" y="19368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 прочтения или просмотра задать ребенку следующие вопрос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 называется профессия «Доктора Айболит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ля чего ему нужен чемоданчик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находиться в этом чемоданчике предметы по карти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играть в игру:«Айболит проверяет здоровье ребят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Стрелка вниз 9"/>
          <p:cNvSpPr/>
          <p:nvPr/>
        </p:nvSpPr>
        <p:spPr>
          <a:xfrm>
            <a:off x="7280280" y="133020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10" descr="doctor.png"/>
          <p:cNvPicPr/>
          <p:nvPr/>
        </p:nvPicPr>
        <p:blipFill>
          <a:blip r:embed="rId1"/>
          <a:stretch/>
        </p:blipFill>
        <p:spPr>
          <a:xfrm>
            <a:off x="7505640" y="1346040"/>
            <a:ext cx="489276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2560" y="2028960"/>
            <a:ext cx="4335120" cy="42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Прямоугольник 2"/>
          <p:cNvSpPr/>
          <p:nvPr/>
        </p:nvSpPr>
        <p:spPr>
          <a:xfrm flipV="1">
            <a:off x="325440" y="1602360"/>
            <a:ext cx="4021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Содержимое 11" descr="1026514629.jpg"/>
          <p:cNvPicPr/>
          <p:nvPr/>
        </p:nvPicPr>
        <p:blipFill>
          <a:blip r:embed="rId1"/>
          <a:stretch/>
        </p:blipFill>
        <p:spPr>
          <a:xfrm>
            <a:off x="450720" y="272880"/>
            <a:ext cx="96552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Спасибо за внимание!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1T01:25:42Z</dcterms:created>
  <dc:creator>HP!</dc:creator>
  <dc:description/>
  <dc:language>en-US</dc:language>
  <cp:lastModifiedBy>USER</cp:lastModifiedBy>
  <dcterms:modified xsi:type="dcterms:W3CDTF">2020-04-10T12:11:53Z</dcterms:modified>
  <cp:revision>56</cp:revision>
  <dc:subject/>
  <dc:title>Фотоальбом</dc:title>
</cp:coreProperties>
</file>